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60.png" ContentType="image/png"/>
  <Override PartName="/ppt/media/image6.jpeg" ContentType="image/jpeg"/>
  <Override PartName="/ppt/media/image24.jpeg" ContentType="image/jpeg"/>
  <Override PartName="/ppt/media/image59.png" ContentType="image/png"/>
  <Override PartName="/ppt/media/image19.jpeg" ContentType="image/jpeg"/>
  <Override PartName="/ppt/media/image42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A78-276E-4C07-B6CF-1387E293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E8F-C313-470A-996A-7A4D7487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942-769D-452F-8A15-09EAADE9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95B-4235-4F58-A91B-D0D4FC1F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6F42-B6EF-4DB9-8AEB-853AD9CB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C1F5-9226-4E9F-B46D-270DF4D1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946F-8A9C-40C9-A128-583138B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D8FC-6F97-4151-8FE4-F61CEB8F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EC67-5056-43FA-8A63-BEC86837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514D-3DDF-4891-B6D3-2955285F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57AD-6B8D-4D02-B014-34CF2D87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028-F792-42B3-946A-6E40A13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7B19-6931-4D4F-AB8F-E8089FD8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2664-E738-4615-8438-0920B54B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53F7-9C62-4A25-BAA9-0155804B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E4C1-4BE8-4CB9-9D81-789EC99A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A5D4-6B1A-4797-A997-0A1C4DBA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DF4-B67B-47FC-B671-86B69FF9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644-6771-4998-A83A-B7534583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55E-77F1-4A7B-B0C8-B597367F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84C-9638-40CA-A329-9126765B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426-C18D-487E-A9BC-58275D33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258-02D2-4DA5-A0EC-B3DF0420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B4F-7D4B-4877-BACD-AFA72B7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0F74-CB4A-4618-88B6-F7258B22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37EC-3B8E-4743-B5B9-75ED4902E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3.xml"/><Relationship Id="rId3" Type="http://schemas.openxmlformats.org/officeDocument/2006/relationships/slide" Target="slide85.xml"/><Relationship Id="rId4" Type="http://schemas.openxmlformats.org/officeDocument/2006/relationships/slide" Target="slide101.xml"/><Relationship Id="rId5" Type="http://schemas.openxmlformats.org/officeDocument/2006/relationships/slide" Target="slide121.xml"/><Relationship Id="rId6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Life%20Cycle%20of%20a%20Pumpkin.htm" TargetMode="External"/><Relationship Id="rId2" Type="http://schemas.openxmlformats.org/officeDocument/2006/relationships/hyperlink" Target="http://www.scottsboro.org/~flewis/SF%20Reading%20Street/spellmaster/Life%20Cycle%20of%20a%20Pumpkin/jigword2.html" TargetMode="External"/><Relationship Id="rId3" Type="http://schemas.openxmlformats.org/officeDocument/2006/relationships/hyperlink" Target="http://www.scottsboro.org/~flewis/SF%20Reading%20Street/spellmaster/Life%20Cycle%20of%20a%20Pumpkin/matchword2.html" TargetMode="External"/><Relationship Id="rId4" Type="http://schemas.openxmlformats.org/officeDocument/2006/relationships/hyperlink" Target="http://www.scottsboro.org/~flewis/SF%20Reading%20Street/spellmaster/Life%20Cycle%20of%20a%20Pumpkin/speedword2.html" TargetMode="External"/><Relationship Id="rId5" Type="http://schemas.openxmlformats.org/officeDocument/2006/relationships/hyperlink" Target="http://www.scottsboro.org/~flewis/SF%20Reading%20Street/spellmaster/Life%20Cycle%20of%20a%20Pumpkin/wordsearch2.html" TargetMode="External"/><Relationship Id="rId6" Type="http://schemas.openxmlformats.org/officeDocument/2006/relationships/hyperlink" Target="http://www.scottsboro.org/~flewis/SF%20Reading%20Street/spellmaster/Life%20Cycle%20of%20a%20Pumpkin/wordweb.html" TargetMode="External"/><Relationship Id="rId7" Type="http://schemas.openxmlformats.org/officeDocument/2006/relationships/hyperlink" Target="http://www.scottsboro.org/~flewis/SF%20Reading%20Street/spellmaster/Life%20Cycle%20of%20a%20Pumpkin%20Spelling/speedword2.html" TargetMode="External"/><Relationship Id="rId8" Type="http://schemas.openxmlformats.org/officeDocument/2006/relationships/hyperlink" Target="http://www.scottsboro.org/~flewis/SF%20Reading%20Street/spellmaster/Life%20Cycle%20of%20a%20Pumpkin%20Spelling/wordweb.html" TargetMode="External"/><Relationship Id="rId9" Type="http://schemas.openxmlformats.org/officeDocument/2006/relationships/hyperlink" Target="http://www.quia.com/rd/58426.html" TargetMode="External"/><Relationship Id="rId10" Type="http://schemas.openxmlformats.org/officeDocument/2006/relationships/hyperlink" Target="http://www.spellingcity.com/index.php?option=com_spellcity&amp;Itemid=122&amp;task=viewList&amp;listId=354270" TargetMode="Externa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crossword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&amp;task=lineMatchGame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69.xml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slide" Target="slide71.xml"/><Relationship Id="rId6" Type="http://schemas.openxmlformats.org/officeDocument/2006/relationships/slide" Target="slide72.xml"/><Relationship Id="rId7" Type="http://schemas.openxmlformats.org/officeDocument/2006/relationships/slide" Target="slide73.xml"/><Relationship Id="rId8" Type="http://schemas.openxmlformats.org/officeDocument/2006/relationships/slide" Target="slide74.xml"/><Relationship Id="rId9" Type="http://schemas.openxmlformats.org/officeDocument/2006/relationships/slide" Target="slide75.xml"/><Relationship Id="rId10" Type="http://schemas.openxmlformats.org/officeDocument/2006/relationships/slide" Target="slide76.xml"/><Relationship Id="rId11" Type="http://schemas.openxmlformats.org/officeDocument/2006/relationships/slide" Target="slide77.xml"/><Relationship Id="rId12" Type="http://schemas.openxmlformats.org/officeDocument/2006/relationships/slide" Target="slide78.xml"/><Relationship Id="rId1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www.field-fare.com/assets/images/Californian_Fruit_Salad.JPG&amp;imgrefurl=http://matureamateur.wordpress.com/2008/06/29/fruit-salad-recipe/&amp;usg=__8H2_KMLwGsSzNclZsp9qi4O6o0Q=&amp;h=2048&amp;w=2048&amp;sz=300&amp;hl=en&amp;start=5&amp;tbnid=25xoC0o-PBzEtM:&amp;tbnh=150&amp;tbnw=150&amp;prev=/images?q=fruit&amp;gbv=2&amp;hl=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sendflowerstohyderabad.com/images/fruit4.jpg&amp;imgrefurl=http://www.sendflowerstohyderabad.com/fresh-fruits-hyderabad.htm&amp;usg=__EtylSEnrEuZ6PVtY2r3y2yrDsGY=&amp;h=302&amp;w=302&amp;sz=26&amp;hl=en&amp;start=8&amp;tbnid=vk4CHnKZDbfCfM:&amp;tbnh=116&amp;tbnw=116&amp;prev=/images?q=fruit&amp;gbv=2&amp;hl=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simplyclassicfruitbaskets.com/pic/fruit_festival_home.jpg&amp;imgrefurl=http://www.simplyclassicfruitbaskets.com/&amp;usg=__Mdz_zTB6MNWqpXrG88U7AyLfFhg=&amp;h=300&amp;w=345&amp;sz=29&amp;hl=en&amp;start=6&amp;tbnid=o9t99YUmoPL6-M:&amp;tbnh=104&amp;tbnw=120&amp;prev=/images?q=fruit&amp;gbv=2&amp;hl=e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http://www.commissaries.com/news/news_2007/images/fruit.jpg&amp;imgrefurl=http://www.sodahead.com/question/120646/would-you-rather-have-fruit-or-vegtables/&amp;usg=__PYEjlyYwYroOV_J4KZuOilC2VIE=&amp;h=1704&amp;w=2272&amp;sz=1137&amp;hl=en&amp;start=20&amp;tbnid=5M157SJl755R2M:&amp;tbnh=113&amp;tbnw=150&amp;prev=/images?q=fruit&amp;gbv=2&amp;hl=e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com/imgres?imgurl=http://sorghumco.files.wordpress.com/2008/06/small-fruit.jpg&amp;imgrefurl=http://sorghumco.wordpress.com/2008/06/20/small-fruit-season/&amp;usg=__KgoIIG11UylJfsCSGRf3v7ruem0=&amp;h=2304&amp;w=3072&amp;sz=1751&amp;hl=en&amp;start=30&amp;tbnid=HAMHKlj0v9n9BM:&amp;tbnh=113&amp;tbnw=150&amp;prev=/images?q=fruit&amp;start=20&amp;gbv=2&amp;ndsp=20&amp;hl=en&amp;sa=N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images.google.com/imgres?imgurl=http://www.germes-online.com/direct/dbimage/50320578/Fruit_Candles.jpg&amp;imgrefurl=http://www.germes-online.com/catalog/44/121/346372/sell_fruit_candles.html&amp;usg=__4A7fu6rSB1eQ6z0fYCL-_z4W4h8=&amp;h=360&amp;w=360&amp;sz=31&amp;hl=en&amp;start=32&amp;tbnid=6duvSc4w4EZp5M:&amp;tbnh=121&amp;tbnw=121&amp;prev=/images?q=fruit&amp;start=20&amp;gbv=2&amp;ndsp=20&amp;hl=en&amp;sa=N" TargetMode="External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www.soilfoodweb.com.au/images/soilfoodweb.com.au/quality%2520compost.jpg&amp;imgrefurl=http://www.soilfoodweb.com.au/&amp;usg=__UsAG_ZDqz51gZsZ3f3VeQ1Bsx20=&amp;h=600&amp;w=793&amp;sz=163&amp;hl=en&amp;start=7&amp;tbnid=3SfLR95btuB_2M:&amp;tbnh=108&amp;tbnw=143&amp;prev=/images?q=soil&amp;gbv=2&amp;hl=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www.claytoncramer.com/pictures/property/SandstoneSoilExtract.jpg&amp;imgrefurl=http://www.claytoncramer.com/weblog/2005_05_15_archive.html&amp;usg=__1ClxUtBVf5clcBrMZEa9fUF0MKU=&amp;h=600&amp;w=796&amp;sz=322&amp;hl=en&amp;start=4&amp;tbnid=qLANbYivqKaE1M:&amp;tbnh=108&amp;tbnw=143&amp;prev=/images?q=soil&amp;gbv=2&amp;hl=en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mysciencebox.org/files/images/Soil%2520profile%2520Talbott.jpg&amp;imgrefurl=http://www.mysciencebox.org/explore/results/taxonomy:14&amp;usg=__Uk9BcQW9ZJwyS2iLaAVA6An2I2Y=&amp;h=850&amp;w=490&amp;sz=218&amp;hl=en&amp;start=3&amp;tbnid=bEz7lAUISIrbWM:&amp;tbnh=145&amp;tbnw=84&amp;prev=/images?q=soil&amp;gbv=2&amp;hl=en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com/imgres?imgurl=http://www.organicgardeninfo.com/images/soil-life.jpg&amp;imgrefurl=http://www.organicgardeninfo.com/soil.html&amp;usg=__93tcVr0hC55-CGv0ZlYfxa2fHBk=&amp;h=351&amp;w=396&amp;sz=22&amp;hl=en&amp;start=8&amp;tbnid=kv8OAH12QQyhhM:&amp;tbnh=110&amp;tbnw=124&amp;prev=/images?q=soil&amp;gbv=2&amp;hl=e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com/imgres?imgurl=http://i.ehow.com/images/GlobalPhoto/Articles/2199658/soil1-main_Full.jpg&amp;imgrefurl=http://www.ehow.com/how_2199658_build-good-soil.html&amp;usg=__JUwQGxxC0cc59x77W4WuwekSlFY=&amp;h=599&amp;w=546&amp;sz=141&amp;hl=en&amp;start=16&amp;tbnid=9gFPGOcse-4k2M:&amp;tbnh=135&amp;tbnw=123&amp;prev=/images?q=soil&amp;gbv=2&amp;hl=en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com/imgres?imgurl=http://www.kidsgeo.com/images/soil-develops.gif&amp;imgrefurl=http://www.kidsgeo.com/geology-for-kids/0003-soil-forming-factors.php&amp;usg=__kbaWdp-7U3kIqYO_dxwkHK9HHbs=&amp;h=452&amp;w=305&amp;sz=76&amp;hl=en&amp;start=32&amp;tbnid=qE8mpdIJuEblpM:&amp;tbnh=127&amp;tbnw=86&amp;prev=/images?q=soil&amp;start=20&amp;gbv=2&amp;ndsp=20&amp;hl=en&amp;sa=N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hyperlink" Target="http://images.google.com/imgres?imgurl=http://ic.ucsc.edu/~wxcheng/wewu/images/roots.jpg&amp;imgrefurl=http://ic.ucsc.edu/~wxcheng/wewu/links.html&amp;usg=__y9cIgxlzALZnd9t6ddr-WtBma5Q=&amp;h=402&amp;w=323&amp;sz=19&amp;hl=en&amp;start=2&amp;tbnid=0nUxsW1x8YR-MM:&amp;tbnh=124&amp;tbnw=100&amp;prev=/images?q=root&amp;gbv=2&amp;hl=en&amp;sa=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m/imgres?imgurl=http://plant-disease.ippc.orst.edu/plant_images/StrawberryRootLesion.JPG&amp;imgrefurl=http://plant-disease.ippc.orst.edu/disease.cfm?RecordID=1047&amp;usg=__65lnLVjhvkA_LOLObqh7n4jQuFw=&amp;h=343&amp;w=504&amp;sz=63&amp;hl=en&amp;start=3&amp;tbnid=LUsVvXIH9Ju_aM:&amp;tbnh=88&amp;tbnw=130&amp;prev=/images?q=root&amp;gbv=2&amp;hl=en&amp;sa=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antisyphus.typepad.com/photos/uncategorized/root1.jpg&amp;imgrefurl=http://antisyphus.typepad.com/blog/root_cause_analysis/&amp;usg=__WOj-pxXz1x4wf4uSrULu6UbA9Ns=&amp;h=421&amp;w=285&amp;sz=145&amp;hl=en&amp;start=5&amp;tbnid=RenVP8E5IGNwjM:&amp;tbnh=125&amp;tbnw=85&amp;prev=/images?q=root&amp;gbv=2&amp;hl=en&amp;sa=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images.google.com/imgres?imgurl=http://www.infovisual.info/01/img_en/051%2520Vegetables%2520-%2520root%2520(1).jpg&amp;imgrefurl=http://www.infovisual.info/01/051_en.html&amp;usg=__oDED_9k0LK_lYjaeWOP6IHhSHGg=&amp;h=384&amp;w=539&amp;sz=66&amp;hl=en&amp;start=9&amp;tbnid=luz2RapIUVCasM:&amp;tbnh=94&amp;tbnw=132&amp;prev=/images?q=root&amp;gbv=2&amp;hl=en&amp;sa=G" TargetMode="External"/><Relationship Id="rId9" Type="http://schemas.openxmlformats.org/officeDocument/2006/relationships/image" Target="../media/image22.jpeg"/><Relationship Id="rId10" Type="http://schemas.openxmlformats.org/officeDocument/2006/relationships/hyperlink" Target="http://images.google.com/imgres?imgurl=http://www.missouriplants.com/Yellowalt/Physalis_pubescens_root.jpg&amp;imgrefurl=http://www.missouriplants.com/Yellowalt/Physalis_pubescens_page.html&amp;usg=__m1zQAyYxCOnGBAOkYnm1TJ5EGow=&amp;h=410&amp;w=335&amp;sz=50&amp;hl=en&amp;start=51&amp;tbnid=tzC4WVUFtgftaM:&amp;tbnh=125&amp;tbnw=102&amp;prev=/images?q=root&amp;start=40&amp;gbv=2&amp;ndsp=20&amp;hl=en&amp;sa=N" TargetMode="External"/><Relationship Id="rId11" Type="http://schemas.openxmlformats.org/officeDocument/2006/relationships/image" Target="../media/image23.jpeg"/><Relationship Id="rId12" Type="http://schemas.openxmlformats.org/officeDocument/2006/relationships/hyperlink" Target="http://images.google.com/imgres?imgurl=http://www.tomhelveydds.com/images/root01.gif&amp;imgrefurl=http://www.tomhelveydds.com/rootcanal.htm&amp;usg=__obh7tFIbPxxgXsnMzFXNsfz0UuY=&amp;h=300&amp;w=300&amp;sz=49&amp;hl=en&amp;start=110&amp;tbnid=D6n6L-HkrSK4QM:&amp;tbnh=116&amp;tbnw=116&amp;prev=/images?q=root&amp;start=100&amp;gbv=2&amp;ndsp=20&amp;hl=en&amp;sa=N" TargetMode="External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decorvillage.files.wordpress.com/2007/11/fall-harvest.jpg&amp;imgrefurl=http://decorvillage.wordpress.com/&amp;usg=__KsjBt-t0faWzB3Qye1ZhIV-neSg=&amp;h=600&amp;w=800&amp;sz=191&amp;hl=en&amp;start=1&amp;tbnid=Wt2kEtcLPhUW0M:&amp;tbnh=107&amp;tbnw=143&amp;prev=/images?q=harvest&amp;gbv=2&amp;hl=en&amp;sa=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www.salvationarmysouth.org/spiritualformation/images/harvest.jpg&amp;imgrefurl=http://www.salvationarmysouth.org/spiritualformation/Missions.htm&amp;usg=__aA9APKisl5lFDRAt2j6D_cDvLQg=&amp;h=1024&amp;w=689&amp;sz=293&amp;hl=en&amp;start=2&amp;tbnid=kgH4mqql394e4M:&amp;tbnh=150&amp;tbnw=101&amp;prev=/images?q=harvest&amp;gbv=2&amp;hl=en&amp;sa=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www.chehalemwines.com/harvest07/images/1102_ridgecrest_after_harvest_big.jpg&amp;imgrefurl=http://www.chehalemwines.com/harvest07/index.html&amp;usg=__dIcJefE3ncq3cHmfIWncfNQru6I=&amp;h=307&amp;w=450&amp;sz=29&amp;hl=en&amp;start=4&amp;tbnid=yYkKX5OYefQouM:&amp;tbnh=87&amp;tbnw=127&amp;prev=/images?q=harvest&amp;gbv=2&amp;hl=en&amp;sa=G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s.google.com/imgres?imgurl=http://www.extension.iastate.edu/NR/rdonlyres/1405E583-CE4C-4F1D-9832-139E87810E56/65620/HarvestGrainStover.JPG&amp;imgrefurl=http://www.extension.iastate.edu/news/2007/oct/071702.htm&amp;usg=__oHwlWAFAD7HGhKsycskUq_oTbks=&amp;h=900&amp;w=1200&amp;sz=977&amp;hl=en&amp;start=14&amp;tbnid=1UqZu6JDqLZHBM:&amp;tbnh=113&amp;tbnw=150&amp;prev=/images?q=harvest&amp;gbv=2&amp;hl=en&amp;sa=G" TargetMode="External"/><Relationship Id="rId10" Type="http://schemas.openxmlformats.org/officeDocument/2006/relationships/image" Target="../media/image28.jpeg"/><Relationship Id="rId11" Type="http://schemas.openxmlformats.org/officeDocument/2006/relationships/hyperlink" Target="http://images.google.com/imgres?imgurl=http://upload.wikimedia.org/wikipedia/commons/6/64/Harvest_Hay_Bales_in_SH.jpg&amp;imgrefurl=http://commons.wikimedia.org/wiki/File:Harvest_Hay_Bales_in_SH.jpg&amp;usg=__EpzwxLUxoIv9W3Pbzoz1TdSAwpY=&amp;h=2000&amp;w=3008&amp;sz=2741&amp;hl=en&amp;start=21&amp;tbnid=hIUiv_dQiZrZ8M:&amp;tbnh=100&amp;tbnw=150&amp;prev=/images?q=harvest&amp;start=20&amp;gbv=2&amp;ndsp=20&amp;hl=en&amp;sa=N" TargetMode="External"/><Relationship Id="rId12" Type="http://schemas.openxmlformats.org/officeDocument/2006/relationships/image" Target="../media/image29.jpeg"/><Relationship Id="rId13" Type="http://schemas.openxmlformats.org/officeDocument/2006/relationships/hyperlink" Target="http://images.google.com/imgres?imgurl=http://www2.valeroyal.gov.uk/internet/baseres.nsf/all/pg_fs_harvest.jpg/$File/pg_fs_harvest.jpg&amp;imgrefurl=http://www2.valeroyal.gov.uk/internet/vr.nsf/AllByUniqueIdentifier/DOCD67F1AAB88DDD721802571CB0040DCFE&amp;usg=__wPWYpahdcwY9w9g6TuPLG3_hF_0=&amp;h=681&amp;w=1019&amp;sz=287&amp;hl=en&amp;start=36&amp;tbnid=Nbiq6MMvRUsYNM:&amp;tbnh=100&amp;tbnw=150&amp;prev=/images?q=harvest&amp;start=20&amp;gbv=2&amp;ndsp=20&amp;hl=en&amp;sa=N" TargetMode="External"/><Relationship Id="rId14" Type="http://schemas.openxmlformats.org/officeDocument/2006/relationships/image" Target="../media/image30.jpeg"/><Relationship Id="rId15" Type="http://schemas.openxmlformats.org/officeDocument/2006/relationships/hyperlink" Target="http://images.google.com/imgres?imgurl=http://www.stormhoek.com/archives/Pinotage%2520harvest%252002%252006.jpg&amp;imgrefurl=http://www.stormhoek.com/archives/2006/02/&amp;usg=__wC28dOj52gvKHXScZauphfe_YwA=&amp;h=359&amp;w=480&amp;sz=49&amp;hl=en&amp;start=75&amp;tbnid=TJ2PZa67iP7kvM:&amp;tbnh=96&amp;tbnw=129&amp;prev=/images?q=harvest&amp;start=60&amp;gbv=2&amp;ndsp=20&amp;hl=en&amp;sa=N" TargetMode="External"/><Relationship Id="rId16" Type="http://schemas.openxmlformats.org/officeDocument/2006/relationships/image" Target="../media/image31.jpeg"/><Relationship Id="rId1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www.gertens.com/sites/default/files/images/Climbing%2520vine.jpg&amp;imgrefurl=http://www.gertens.com/learn/howtos/topics/climbingvines&amp;usg=__eT2ulToOpC2CxbfH8gWisrhCVDE=&amp;h=471&amp;w=336&amp;sz=48&amp;hl=en&amp;start=9&amp;tbnid=w0EZvATTSBmXNM:&amp;tbnh=129&amp;tbnw=92&amp;prev=/images?q=vine&amp;gbv=2&amp;hl=en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google.com/imgres?imgurl=http://bonsaibc.ca/peninsula/Blue_Berry_Vine__T.JPG&amp;imgrefurl=http://bonsaibc.ca/peninsula/VINES.htm&amp;usg=__OegsWBBHbDqn993sZKXJWMWxr6A=&amp;h=447&amp;w=643&amp;sz=115&amp;hl=en&amp;start=31&amp;tbnid=Ufl0vWoyOmR0EM:&amp;tbnh=95&amp;tbnw=137&amp;prev=/images?q=vine&amp;start=20&amp;gbv=2&amp;ndsp=20&amp;hl=en&amp;sa=N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google.com/imgres?imgurl=http://bexar-tx.tamu.edu/HomeHort/F1Column/2006%2520Articles/Graphics/The%2520Butterfly%2520Vine%2520is%2520a%2520summer%2520bloomer%2520along%2520side%2520the%2520Pride%2520of%2520Barbados%2520at%2520the%2520San%2520Antonio%2520Garden.jpg&amp;imgrefurl=http://bexar-tx.tamu.edu/HomeHort/F1Column/2006%2520Articles/JULY24ButterflyVine.htm&amp;usg=__fCT1f_ZviPrr-Fh_qfkgfHGGGFM=&amp;h=529&amp;w=736&amp;sz=397&amp;hl=en&amp;start=34&amp;tbnid=DGmqdCqFITisoM:&amp;tbnh=101&amp;tbnw=141&amp;prev=/images?q=vine&amp;start=20&amp;gbv=2&amp;ndsp=20&amp;hl=en&amp;sa=N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google.com/imgres?imgurl=http://upload.wikimedia.org/wikipedia/commons/6/60/Vine_on_palm_branch.jpg&amp;imgrefurl=http://commons.wikimedia.org/wiki/Image:Vine_on_palm_branch.jpg&amp;usg=__DUeli-oMyN_MVpYMpIG2wus5n2k=&amp;h=1536&amp;w=2048&amp;sz=1713&amp;hl=en&amp;start=49&amp;tbnid=ZPpEYd3Dc3qPIM:&amp;tbnh=113&amp;tbnw=150&amp;prev=/images?q=vine&amp;start=40&amp;gbv=2&amp;ndsp=20&amp;hl=en&amp;sa=N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google.com/imgres?imgurl=http://k43.pbase.com/o4/46/598146/1/52732522.ClimbingVine.jpg&amp;imgrefurl=http://www.pbase.com/sucho/image/52732522&amp;usg=__DgNm40NSjhY6_VFHvoCf5tPWIkk=&amp;h=500&amp;w=323&amp;sz=54&amp;hl=en&amp;start=53&amp;tbnid=VpakPWXBvNwqtM:&amp;tbnh=130&amp;tbnw=84&amp;prev=/images?q=vine&amp;start=40&amp;gbv=2&amp;ndsp=20&amp;hl=en&amp;sa=N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images.google.com/imgres?imgurl=http://mgonline.com/vanilla_vine01.jpg&amp;imgrefurl=http://mgonline.com/vines.html&amp;usg=__zdJBljnoT2zAmwC91tByh4d8utM=&amp;h=480&amp;w=640&amp;sz=136&amp;hl=en&amp;start=76&amp;tbnid=quP2tYWUa3KzsM:&amp;tbnh=103&amp;tbnw=137&amp;prev=/images?q=vine&amp;start=60&amp;gbv=2&amp;ndsp=20&amp;hl=en&amp;sa=N" TargetMode="External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forestry.about.com/library/graphics/BumpySK.jpg&amp;imgrefurl=http://forums.about.com/ab-forestry/messages/?lgnF=y&amp;msg=3326.1&amp;usg=__tAdvndhmWjM-LioJi7OW4zyY3jo=&amp;h=450&amp;w=450&amp;sz=151&amp;hl=en&amp;start=2&amp;tbnid=nNmlszHIMTM4kM:&amp;tbnh=127&amp;tbnw=127&amp;prev=/images?q=bumpy&amp;gbv=2&amp;hl=en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images.google.com/imgres?imgurl=http://www.mchenrycountyblog.com/uploaded_images/Crystal-Lake-foam-bumpy-741067.jpg&amp;imgrefurl=http://www.mchenrycountyblog.com/2007_04_01_mchenrycountyblog_archive.html&amp;usg=__8NkGsDigMTaYJhkGDpwnmDBA2A8=&amp;h=485&amp;w=730&amp;sz=74&amp;hl=en&amp;start=6&amp;tbnid=28o2mHr-QX3X0M:&amp;tbnh=94&amp;tbnw=141&amp;prev=/images?q=bumpy&amp;gbv=2&amp;hl=en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images.google.com/imgres?imgurl=http://www.all4humor.com/images/files/Bumpy%2520Road.jpg&amp;imgrefurl=http://www.all4humor.com/picture/cool-pictures/bumpy-road.html&amp;usg=__bzSQ_VWxfybKGySZ5h5bxTYKLlE=&amp;h=433&amp;w=460&amp;sz=44&amp;hl=en&amp;start=5&amp;tbnid=jZu3LYVWQ8j9KM:&amp;tbnh=120&amp;tbnw=128&amp;prev=/images?q=bumpy&amp;gbv=2&amp;hl=en" TargetMode="External"/><Relationship Id="rId8" Type="http://schemas.openxmlformats.org/officeDocument/2006/relationships/image" Target="../media/image40.jpeg"/><Relationship Id="rId9" Type="http://schemas.openxmlformats.org/officeDocument/2006/relationships/hyperlink" Target="http://images.google.com/imgres?imgurl=http://www.room-to-fly.com/images/5in-bumpy_star.jpg&amp;imgrefurl=http://www.room-to-fly.com/star.html&amp;usg=__O0EwSMg5VPX0OBA-C88EhEI9XNw=&amp;h=493&amp;w=550&amp;sz=25&amp;hl=en&amp;start=7&amp;tbnid=TbxF5I8cJPuivM:&amp;tbnh=119&amp;tbnw=133&amp;prev=/images?q=bumpy&amp;gbv=2&amp;hl=en" TargetMode="External"/><Relationship Id="rId10" Type="http://schemas.openxmlformats.org/officeDocument/2006/relationships/image" Target="../media/image41.jpeg"/><Relationship Id="rId11" Type="http://schemas.openxmlformats.org/officeDocument/2006/relationships/hyperlink" Target="http://images.google.com/imgres?imgurl=http://allaboutfrogs.org/funstuff/funny/bumpy.jpg&amp;imgrefurl=http://allaboutfrogs.org/funstuff/funny/bumpy.html&amp;usg=__ItTmIj11o2u3JElgelWP31RH9D8=&amp;h=273&amp;w=421&amp;sz=30&amp;hl=en&amp;start=10&amp;tbnid=i7XsEwsUFEV59M:&amp;tbnh=81&amp;tbnw=125&amp;prev=/images?q=bumpy&amp;gbv=2&amp;hl=en" TargetMode="External"/><Relationship Id="rId12" Type="http://schemas.openxmlformats.org/officeDocument/2006/relationships/image" Target="../media/image42.jpeg"/><Relationship Id="rId13" Type="http://schemas.openxmlformats.org/officeDocument/2006/relationships/hyperlink" Target="http://images.google.com/imgres?imgurl=http://static.flickr.com/28/55086006_03ca191619_o.jpg&amp;imgrefurl=http://spacebar.blogsome.com/2005/10/22/&amp;usg=__EGpLaKTBLNosiSUSpt29-QNURWs=&amp;h=357&amp;w=360&amp;sz=175&amp;hl=en&amp;start=57&amp;tbnid=q3E51x2HvRkzOM:&amp;tbnh=120&amp;tbnw=121&amp;prev=/images?q=bumpy&amp;start=40&amp;gbv=2&amp;ndsp=20&amp;hl=en&amp;sa=N" TargetMode="External"/><Relationship Id="rId14" Type="http://schemas.openxmlformats.org/officeDocument/2006/relationships/image" Target="../media/image43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www.metoffice.gov.uk/education/images/water_cycle.jpg&amp;imgrefurl=http://www.metoffice.gov.uk/education/primary/students/watercycle.html&amp;usg=__dt3Hn5XUJcQ5-NZFxi6wgoOcCxM=&amp;h=326&amp;w=400&amp;sz=29&amp;hl=en&amp;start=3&amp;tbnid=wgtyUmGmxDAUzM:&amp;tbnh=101&amp;tbnw=124&amp;prev=/images?q=cycle&amp;gbv=2&amp;hl=en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images.google.com/imgres?imgurl=http://www.infovisual.info/02/img_en/029%2520Life%2520cycle%2520of%2520a%2520frog.jpg&amp;imgrefurl=http://www.infovisual.info/02/029_en.html&amp;usg=__EisZmsCyNTDX96l7IcHz3HLHHTU=&amp;h=379&amp;w=431&amp;sz=69&amp;hl=en&amp;start=5&amp;tbnid=FzBTKA0_kbPZlM:&amp;tbnh=111&amp;tbnw=126&amp;prev=/images?q=cycle&amp;gbv=2&amp;hl=en" TargetMode="External"/><Relationship Id="rId6" Type="http://schemas.openxmlformats.org/officeDocument/2006/relationships/image" Target="../media/image45.jpeg"/><Relationship Id="rId7" Type="http://schemas.openxmlformats.org/officeDocument/2006/relationships/hyperlink" Target="http://images.google.com/imgres?imgurl=http://www.oum.ox.ac.uk/thezone/animals/life/images/cycle1.gif&amp;imgrefurl=http://www.oum.ox.ac.uk/thezone/animals/life/produce.htm&amp;usg=__wCTIFc3QsVC-enYJ3WH1-sAJhtI=&amp;h=360&amp;w=394&amp;sz=16&amp;hl=en&amp;start=32&amp;tbnid=WGcnM9CRd6PZZM:&amp;tbnh=113&amp;tbnw=124&amp;prev=/images?q=cycle&amp;start=20&amp;gbv=2&amp;ndsp=20&amp;hl=en&amp;sa=N" TargetMode="External"/><Relationship Id="rId8" Type="http://schemas.openxmlformats.org/officeDocument/2006/relationships/image" Target="../media/image46.jpeg"/><Relationship Id="rId9" Type="http://schemas.openxmlformats.org/officeDocument/2006/relationships/hyperlink" Target="http://images.google.com/imgres?imgurl=http://www.kidsgeo.com/images/nitrogen-cycle.gif&amp;imgrefurl=http://www.kidsgeo.com/geography-for-kids/0161-the-nitrogen-cycle.php&amp;usg=__MqGVPQ3-DAU1lCo1gu7vz2MKock=&amp;h=300&amp;w=350&amp;sz=25&amp;hl=en&amp;start=40&amp;tbnid=jT_Vg1e5d_h5_M:&amp;tbnh=103&amp;tbnw=120&amp;prev=/images?q=cycle&amp;start=20&amp;gbv=2&amp;ndsp=20&amp;hl=en&amp;sa=N" TargetMode="External"/><Relationship Id="rId10" Type="http://schemas.openxmlformats.org/officeDocument/2006/relationships/image" Target="../media/image47.jpeg"/><Relationship Id="rId11" Type="http://schemas.openxmlformats.org/officeDocument/2006/relationships/hyperlink" Target="http://images.google.com/imgres?imgurl=http://sabin.org/files/hookworm_life_cycle2.jpg&amp;imgrefurl=http://sabin.org/programs/hhvi/hookwormlifecycle.html&amp;usg=__G8P63lww7tEMF6MDRoETrKtzWec=&amp;h=600&amp;w=556&amp;sz=51&amp;hl=en&amp;start=102&amp;tbnid=quEPe3PLfRuqSM:&amp;tbnh=135&amp;tbnw=125&amp;prev=/images?q=cycle&amp;start=100&amp;gbv=2&amp;ndsp=20&amp;hl=en&amp;sa=N" TargetMode="External"/><Relationship Id="rId12" Type="http://schemas.openxmlformats.org/officeDocument/2006/relationships/image" Target="../media/image48.jpeg"/><Relationship Id="rId13" Type="http://schemas.openxmlformats.org/officeDocument/2006/relationships/hyperlink" Target="http://images.google.com/imgres?imgurl=http://www.mineraltown.com/infocoleccionar/imatges/rock_cycle.jpg&amp;imgrefurl=http://www.mineraltown.com/infocoleccionar/How_rocks_minerals_are_formed.htm&amp;usg=__kv3G2dAUroNuH4nIaycC-si_ssA=&amp;h=300&amp;w=400&amp;sz=28&amp;hl=en&amp;start=118&amp;tbnid=lOdF5hDczWsNtM:&amp;tbnh=93&amp;tbnw=124&amp;prev=/images?q=cycle&amp;start=100&amp;gbv=2&amp;ndsp=20&amp;hl=en&amp;sa=N" TargetMode="External"/><Relationship Id="rId14" Type="http://schemas.openxmlformats.org/officeDocument/2006/relationships/image" Target="../media/image49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hyperlink" Target="http://images.google.com/imgres?imgurl=http://fbhphotography.net/MichaelBiglerGalleries/Landscapes/fullsize/Wither_fs.jpg&amp;imgrefurl=http://fbhphotography.net/MichaelBiglerLandscapes.htm&amp;usg=__-vT5HimcwOske_BbiwRBX9ZaaKo=&amp;h=800&amp;w=600&amp;sz=315&amp;hl=en&amp;start=3&amp;tbnid=GcZWI4lii7dMMM:&amp;tbnh=143&amp;tbnw=107&amp;prev=/images?q=wither&amp;gbv=2&amp;hl=en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images.google.com/imgres?imgurl=http://plant-disease.ippc.orst.edu/plant_images/drroot1.jpg&amp;imgrefurl=http://plant-disease.ippc.orst.edu/disease.cfm?RecordID=954&amp;usg=__0_6Yf_Qg1tengWzBPrj7S80AutY=&amp;h=379&amp;w=500&amp;sz=35&amp;hl=en&amp;start=7&amp;tbnid=72DYUHKG7QipvM:&amp;tbnh=99&amp;tbnw=130&amp;prev=/images?q=wither&amp;gbv=2&amp;hl=en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images.google.com/imgres?imgurl=http://www.treehugger.com/CornWither.jpg&amp;imgrefurl=http://www.treehugger.com/files/2007/12/gm_corn_in_euro.php&amp;usg=__sbtpnOUhHJGMSAxBw6sRVEO0Cak=&amp;h=274&amp;w=468&amp;sz=102&amp;hl=en&amp;start=19&amp;tbnid=ruzZHddKuaoYEM:&amp;tbnh=75&amp;tbnw=128&amp;prev=/images?q=wither&amp;gbv=2&amp;hl=en" TargetMode="External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hyperlink" Target="http://images.google.com/imgres?imgurl=http://easyweb.easynet.co.uk/~iany/patterns/images/pea_tendrils.jpg&amp;imgrefurl=http://easyweb.easynet.co.uk/~iany/patterns/pea_tendrils.htm&amp;usg=__MnKo8E-Nhjkz8D6FshO_HcmsH9I=&amp;h=543&amp;w=800&amp;sz=57&amp;hl=en&amp;start=2&amp;tbnid=CotW8E7rGEQL1M:&amp;tbnh=97&amp;tbnw=143&amp;prev=/images?q=tendrils&amp;gbv=2&amp;hl=en" TargetMode="External"/><Relationship Id="rId3" Type="http://schemas.openxmlformats.org/officeDocument/2006/relationships/image" Target="../media/image53.jpeg"/><Relationship Id="rId4" Type="http://schemas.openxmlformats.org/officeDocument/2006/relationships/hyperlink" Target="http://images.google.com/imgres?imgurl=http://www.ars.usda.gov/is/graphics/photos/sep05/d199-1i.jpg&amp;imgrefurl=http://www.ars.usda.gov/is/pr/2005/050915.htm?pf=1&amp;usg=__8NxSvBYF6FasFZU1HjClBNQmejY=&amp;h=244&amp;w=252&amp;sz=53&amp;hl=en&amp;start=6&amp;tbnid=P6HvCx2efg6yOM:&amp;tbnh=107&amp;tbnw=111&amp;prev=/images?q=tendrils&amp;gbv=2&amp;hl=en" TargetMode="External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br>
              <a:rPr sz="36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2" descr="Life Cycle of a Pumpki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2057400"/>
            <a:ext cx="3254400" cy="365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Week 2"/>
          <p:cNvPicPr/>
          <p:nvPr/>
        </p:nvPicPr>
        <p:blipFill>
          <a:blip r:embed="rId3"/>
          <a:stretch/>
        </p:blipFill>
        <p:spPr>
          <a:xfrm>
            <a:off x="155520" y="46080"/>
            <a:ext cx="111456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Verdana"/>
              </a:rPr>
              <a:t>Wedn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descriptive paragraph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ut a smooth item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roots, soil, and nutrients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3716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more about how plants grow.  Plants nee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o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oil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and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do you need to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an Annou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819520" y="160020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124080" y="144792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igger machines are the bulldozer and the pull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m’s baked pudding is tastier than any other in the worl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re you carrying those full boxes of books every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entence Rea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s is the easiest way to move the pushcart at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ook for the woman who writes in the tiniest note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you live near the sparkling brook in the woo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ut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295280" y="1600200"/>
          <a:ext cx="6535800" cy="517860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Student Pages"/>
          <p:cNvPicPr/>
          <p:nvPr/>
        </p:nvPicPr>
        <p:blipFill>
          <a:blip r:embed="rId1"/>
          <a:stretch/>
        </p:blipFill>
        <p:spPr>
          <a:xfrm>
            <a:off x="152280" y="299880"/>
            <a:ext cx="876312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6868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id You put away your ga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id you put away your gam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rad sh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Brad shook my h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0" lang="en-US" sz="36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57200" y="1676520"/>
          <a:ext cx="822960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peaking and Liste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Speak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in a clear vo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 slow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eye contact with listen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appropriate voic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l all the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Listeners</a:t>
            </a: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quie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 the speak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to what the speaker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questions if you don’t understand part of the announc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e Connections:  Text to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day we read a poem about seeds.  Tomorrow we will hear again about how plants grow from s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hur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getting us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something new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week we read about plants.  We learned about pumpkins and maple trees.  We also learned about other seeds.  How do seeds change as they grow into plant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rcle 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2666880" y="175248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048120" y="1523880"/>
          <a:ext cx="3352680" cy="527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rossword Puzz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____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____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___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___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Big Question:</a:t>
            </a: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How do plants change as they grow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___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___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cccc00"/>
                </a:solidFill>
                <a:latin typeface="Verdana"/>
              </a:rPr>
              <a:t>smooth, bumpy, root, vine, harvest, soil, frui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d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it will ke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 firm and fi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l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f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 we will pick and ch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hyming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t a seed in the soil so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d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grow a root that it will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kee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 of the dirt grows a big green </a:t>
            </a:r>
            <a:r>
              <a:rPr b="1" lang="en-US" sz="3200" spc="-1" strike="noStrike">
                <a:solidFill>
                  <a:srgbClr val="feec94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bear some fruit so firm and </a:t>
            </a:r>
            <a:r>
              <a:rPr b="1" lang="en-US" sz="3200" spc="-1" strike="noStrike">
                <a:solidFill>
                  <a:srgbClr val="feec94"/>
                </a:solidFill>
                <a:latin typeface="Verdana"/>
              </a:rPr>
              <a:t>f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feel soft and smooth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l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s feel rough and bumpy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at harvest time we will pick an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ha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took all the cook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bulldog likes the sock on my foo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crook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good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 or u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ose children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l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ulld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kes the sock on my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cr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et aw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ople change as they grow older.  Animals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Verdana"/>
              </a:rPr>
              <a:t>Word Family Word – but</a:t>
            </a: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</a:t>
            </a:r>
            <a:br>
              <a:rPr sz="4000"/>
            </a:br>
            <a:r>
              <a:rPr b="0" lang="en-US" sz="1400" spc="-1" strike="noStrike">
                <a:solidFill>
                  <a:srgbClr val="feec94"/>
                </a:solidFill>
                <a:latin typeface="Verdana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Match It Gam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5" descr="Student Pages"/>
          <p:cNvPicPr/>
          <p:nvPr/>
        </p:nvPicPr>
        <p:blipFill>
          <a:blip r:embed="rId1"/>
          <a:stretch/>
        </p:blipFill>
        <p:spPr>
          <a:xfrm>
            <a:off x="152280" y="412920"/>
            <a:ext cx="883944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5341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wagon is ful of pumpki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wagon is full of pumpki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strong wind sh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Arial"/>
              </a:rPr>
              <a:t>The strong wind shook my c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way of showing information.  It is sometimes called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pi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ually cut a pie into pieces before eat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lso cut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circle grap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to pieces to show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ircle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tire circle stands for one who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section in the circle graph is part of the who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see a large section, you know that it stands for a large part of the who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see a small section, you know that it stands for a small part of the who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ords and numbers in the sections of the graph show what part of the whole each section 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2362320"/>
          <a:ext cx="6096240" cy="3213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eop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as they grow older. 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nimal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change too.  How do plants change as they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Our Week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Verdana"/>
              </a:rPr>
              <a:t>Let’s Talk About Our Changing Worl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Fri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t-growing contes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lated Lin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ce Read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bou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er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quaro Cac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Discovery Streaming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ide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ing Plants: Science in a School Garden (22:4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 Life Cycles (20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Plants Grow (19: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bie Greenthumb: How Plants Grow (12:5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take our story tes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dap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 – 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thing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, they change to fit new situations or surrou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lant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a bigger p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dog had to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o its new ho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famili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dap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well to living in a different coun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nual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– nu - 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that happens one time a year is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plant that lives only one year or season is called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ourth of July parade in our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e have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nual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family reunion in Aug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84400" y="2269800"/>
            <a:ext cx="67752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nutrient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 – tri - 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re things like proteins, vitamins, and minerals that people, animals, or plants need in order to grow and be healt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eat healthy food, you get a lot of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uits and vegetables have many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nutrien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’ll learn that the vowels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an stand for the sound of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 in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oo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Sound-Spelling Card"/>
          <p:cNvPicPr/>
          <p:nvPr/>
        </p:nvPicPr>
        <p:blipFill>
          <a:blip r:embed="rId1"/>
          <a:stretch/>
        </p:blipFill>
        <p:spPr>
          <a:xfrm>
            <a:off x="2666880" y="380880"/>
            <a:ext cx="3810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word stands for the /u/ s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259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Ju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f, h, k, l, l, p, r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d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d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p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verl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o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ext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- berry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95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ocabulary &amp; Amaz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ll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7"/>
              </a:rPr>
              <a:t>Speed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8"/>
              </a:rPr>
              <a:t>Word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9"/>
              </a:rPr>
              <a:t>Quia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0"/>
              </a:rPr>
              <a:t>Spelling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equenc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Arial"/>
                <a:ea typeface="Arial"/>
              </a:rPr>
              <a:t>Match-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ut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95280" y="1523880"/>
          <a:ext cx="6535800" cy="51818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clean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752480"/>
          <a:ext cx="6535440" cy="33768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dig 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752480"/>
          <a:ext cx="6535440" cy="454824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i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Fact and Opin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all that when Abigail moved to a new home, she and her father had different opinions about the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what someone thinks or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a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 be proven true or fa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tatement that cannot be proven true or false because it tells ideas or feel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sk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ve readers often ask questions about the sentences they re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might ask if a sentence is a fact or an opin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Student Pages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ike stod on a huge r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ike stood on a huge roc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ut your cap on the hoo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Put your cap on the hook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djecti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an tell how something looks, sounds, tastes, feels, or smel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ds for number, size, and shape are adjec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 sunflower has small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ord </a:t>
            </a: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scribes how many sunflowers—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Verdana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scribes the size of the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ten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tall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1600200"/>
          <a:ext cx="3657600" cy="4191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a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istur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large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oval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five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plant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unflow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unflowers are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tal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eds grow in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larg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hea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ina took out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oval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 filled </a:t>
            </a: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five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bags with s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24080" y="1447920"/>
          <a:ext cx="3353040" cy="52736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Vocabular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ossword Puzz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rv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m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o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dri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Sort these words:</a:t>
            </a: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Verdana"/>
              </a:rPr>
              <a:t>ten, tall, large, oval, five, round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3520" y="2514600"/>
          <a:ext cx="8229600" cy="24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i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Describe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f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tal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l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ov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rou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lling /u/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bout how a plant changes as it g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Mon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523880" y="2362320"/>
          <a:ext cx="6096240" cy="34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52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something you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 that is an annual event.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four months, they grow from tiny seeds to large, round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nths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seeds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fruits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765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about pumpkins.  In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ur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month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they grow from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tiny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seed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to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roun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fruits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 What else grows from seed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xt C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bur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 - 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you put something in a hole under the ground, you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irate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trea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i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ulbs will bloom into tulips in the 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worker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bury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all the cable lines along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undisturbe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 – dis – 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If something is not bothered or not moved from its normal place or situation, it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Fred took 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nap on the cou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new garden wa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y the p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baby rabbits rested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undisturbed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n their nest in the gr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71800" y="1447920"/>
          <a:ext cx="3048120" cy="48956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9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Match It Game</a:t>
                      </a: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ancien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 - 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Very old things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Events that happened more than 2,000 years ago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pyramids of Egypt ar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ancien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stru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the sound /u/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to a new word, look at the letters from left to right, and think about the vowel s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y the sounds in the word to yourself,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fr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504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u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ll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te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000" spc="-1" strike="noStrike">
                <a:solidFill>
                  <a:srgbClr val="feec94"/>
                </a:solidFill>
                <a:latin typeface="Verdana"/>
              </a:rPr>
              <a:t>oo, u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Verdana"/>
              </a:rPr>
              <a:t>Find the words with oo, or u in “A Good Seed.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</a:rPr>
              <a:t>Making Word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o, o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d, g, h, k, l, l, p, s, w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wels </a:t>
            </a:r>
            <a:r>
              <a:rPr b="1" i="1" lang="en-US" sz="4400" spc="-1" strike="noStrike">
                <a:solidFill>
                  <a:srgbClr val="feec94"/>
                </a:solidFill>
                <a:latin typeface="Verdana"/>
              </a:rPr>
              <a:t>oo, 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769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ok put the wood in the p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wore a hood when I stood by the br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 not push or pull that big hoo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Build Background: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 A Life Cyc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6" descr="CD6358-sm"/>
          <p:cNvPicPr/>
          <p:nvPr/>
        </p:nvPicPr>
        <p:blipFill>
          <a:blip r:embed="rId1"/>
          <a:stretch/>
        </p:blipFill>
        <p:spPr>
          <a:xfrm>
            <a:off x="228600" y="1600200"/>
            <a:ext cx="3925800" cy="4952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butterfly_lifecycle"/>
          <p:cNvPicPr/>
          <p:nvPr/>
        </p:nvPicPr>
        <p:blipFill>
          <a:blip r:embed="rId2"/>
          <a:stretch/>
        </p:blipFill>
        <p:spPr>
          <a:xfrm>
            <a:off x="4343400" y="2286000"/>
            <a:ext cx="45910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fruit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part of a plant that contains s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p layer of Earth’s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part of a plant that takes in water and holds the plant in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 action="ppaction://hlinksldjump"/>
              </a:rPr>
              <a:t>harvest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to gather cr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 action="ppaction://hlinksldjump"/>
              </a:rPr>
              <a:t>v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plant with a long, thin 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8" action="ppaction://hlinksldjump"/>
              </a:rPr>
              <a:t>bump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vered with high spots or lum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smoo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flat or 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9" action="ppaction://hlinksldjump"/>
              </a:rPr>
              <a:t>cyc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eries of actions that happen in the same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0" action="ppaction://hlinksldjump"/>
              </a:rPr>
              <a:t>with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to dry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1" action="ppaction://hlinksldjump"/>
              </a:rPr>
              <a:t>tendri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slender, curling part of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2" action="ppaction://hlinksldjump"/>
              </a:rPr>
              <a:t>(next sli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frui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6" descr="Californian_Fruit_Sal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fruit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fruit_festival_hom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175280"/>
            <a:ext cx="2743200" cy="2377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fru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210200"/>
            <a:ext cx="3124080" cy="2352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small-frui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29200" y="1219320"/>
            <a:ext cx="3790800" cy="2855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Fruit_Candle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05320" y="41911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soil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11" descr="quality%2520compo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SandstoneSoilExtrac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1219320"/>
            <a:ext cx="3038400" cy="229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Soil%2520profile%2520Talbot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62520" y="1219320"/>
            <a:ext cx="1368360" cy="198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soil-lif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3492360"/>
            <a:ext cx="3429000" cy="304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soil1-main_Fu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3581280"/>
            <a:ext cx="2698920" cy="2962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1" descr="soil-develop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657600"/>
            <a:ext cx="1954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roo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roo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StrawberryRootLes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4191120"/>
            <a:ext cx="3505320" cy="2373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root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13720" y="1219320"/>
            <a:ext cx="2073240" cy="3047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7" descr="051%2520Vegetables%2520-%2520root%2520(1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66880" y="1219320"/>
            <a:ext cx="3962520" cy="2820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Physalis_pubescens_roo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3962520"/>
            <a:ext cx="2090880" cy="25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root0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29400" y="434340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harvest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13" descr="fall-harv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124080" cy="2338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" descr="harv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4419720"/>
            <a:ext cx="1424160" cy="2114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1102_ridgecrest_after_harvest_bi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219320"/>
            <a:ext cx="2209680" cy="1514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1" descr="HarvestGrainStov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33920" y="281952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3" descr="Harvest_Hay_Bales_in_S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2292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" descr="pg_fs_harves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943600" y="1219320"/>
            <a:ext cx="2876400" cy="1917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7" descr="Pinotage%2520harvest%252002%25200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867280" y="4335480"/>
            <a:ext cx="29815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vin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13" descr="Climbing%2520vin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1955880" cy="2743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Blue_Berry_Vine__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12193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he%2520Butterfly%2520Vine%2520is%2520a%2520summer%2520bloomer%2520along%2520side%2520the%2520Pride%2520of%2520Barbados%2520at%2520the%2520San%2520Antonio%2520Gard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1219320"/>
            <a:ext cx="3171960" cy="2271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9" descr="Vine_on_palm_branch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094280"/>
            <a:ext cx="3276720" cy="2468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1" descr="5273252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3809880"/>
            <a:ext cx="1243080" cy="2762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3" descr="vanilla_vine0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52880" y="3614760"/>
            <a:ext cx="3895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 bumpy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11" descr="BumpyS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Crystal-Lake-foam-bumpy-7410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1523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Bumpy%2520Road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3909960"/>
            <a:ext cx="2819160" cy="2643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" descr="5in-bumpy_sta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1219320"/>
            <a:ext cx="2790720" cy="2496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9" descr="bum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8600" y="4340160"/>
            <a:ext cx="3429000" cy="2222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1" descr="55086006_03ca191619_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4038480"/>
            <a:ext cx="20574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cycl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11" descr="water_cyc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429000" cy="2792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029%2520Life%2520cycle%2520of%2520a%2520fro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1219320"/>
            <a:ext cx="2514600" cy="2214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cycle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32440"/>
            <a:ext cx="2666880" cy="2430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9" descr="nitrogen-cycl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8120" y="4124160"/>
            <a:ext cx="2819160" cy="2419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1" descr="hookworm_life_cycle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97600" y="3505320"/>
            <a:ext cx="2813040" cy="3038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3" descr="rock_cycl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121932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wither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11" descr="Wither_f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3992400" cy="5333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drroot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219320"/>
            <a:ext cx="4514760" cy="3436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CornWith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472428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tendril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8" descr="pea_tendr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d199-1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1219320"/>
            <a:ext cx="1752480" cy="2133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1028%2520-%2520Psiguria%2520pedata%2520split%2520tendrils"/>
          <p:cNvPicPr/>
          <p:nvPr/>
        </p:nvPicPr>
        <p:blipFill>
          <a:blip r:embed="rId6"/>
          <a:stretch/>
        </p:blipFill>
        <p:spPr>
          <a:xfrm>
            <a:off x="5334120" y="1219320"/>
            <a:ext cx="3485880" cy="2625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tendrils"/>
          <p:cNvPicPr/>
          <p:nvPr/>
        </p:nvPicPr>
        <p:blipFill>
          <a:blip r:embed="rId7"/>
          <a:stretch/>
        </p:blipFill>
        <p:spPr>
          <a:xfrm>
            <a:off x="228600" y="3581280"/>
            <a:ext cx="2104920" cy="2934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cucumber1"/>
          <p:cNvPicPr/>
          <p:nvPr/>
        </p:nvPicPr>
        <p:blipFill>
          <a:blip r:embed="rId8"/>
          <a:stretch/>
        </p:blipFill>
        <p:spPr>
          <a:xfrm>
            <a:off x="2438280" y="4038480"/>
            <a:ext cx="2895840" cy="2505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8" descr="Ampelopsis%2520arborea%2520tendrils"/>
          <p:cNvPicPr/>
          <p:nvPr/>
        </p:nvPicPr>
        <p:blipFill>
          <a:blip r:embed="rId9"/>
          <a:stretch/>
        </p:blipFill>
        <p:spPr>
          <a:xfrm>
            <a:off x="5562720" y="4073400"/>
            <a:ext cx="3286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Re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281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u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arv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m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ontext Clu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we can use when we come across words we don’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look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get the meaning from word parts like the base word and prefix or e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we can look for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y we will learn more about using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text clu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find the meaning of a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homony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g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752480"/>
          <a:ext cx="6535440" cy="251460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Student Pages"/>
          <p:cNvPicPr/>
          <p:nvPr/>
        </p:nvPicPr>
        <p:blipFill>
          <a:blip r:embed="rId1"/>
          <a:stretch/>
        </p:blipFill>
        <p:spPr>
          <a:xfrm>
            <a:off x="152280" y="411120"/>
            <a:ext cx="88394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ad cut to pieces of wo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ad cut two pieces of woo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y birthday is in ju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My birthday is in Jul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ds for number, size, and shape are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djectives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words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a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are also adject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discover more facts about pumpkin pl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Tuesda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447920" y="2362320"/>
          <a:ext cx="6095880" cy="3236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e about a plant you or someone you know has grown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book about Turtle.  We will take a good look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r>
              <a:rPr b="0" lang="en-US" sz="4400" spc="-1" strike="noStrike">
                <a:solidFill>
                  <a:srgbClr val="feec94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  <a:ea typeface="Arial"/>
              </a:rPr>
              <a:t>Wednesday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447920" y="2286000"/>
          <a:ext cx="6095880" cy="370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day we will read the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b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bout Turtle.  We will take a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look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at how people help her as she grows.  Who helps you as you grow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Today we will learn about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wels oo,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for Number, Size, and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Syllables: Consonant + 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dle -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an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words with more than one syl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with a consonant and le, those three letters make the last syllable in the word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  <a:ea typeface="Arial"/>
              </a:rPr>
              <a:t>Life Cycle of a Pumpk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676520" y="2895480"/>
          <a:ext cx="6095880" cy="1737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Life Cycle of a Pumpkin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Verdana"/>
              </a:rPr>
              <a:t>Word Family Word – berry</a:t>
            </a:r>
            <a:br>
              <a:rPr sz="4000"/>
            </a:b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19320" y="1752480"/>
          <a:ext cx="6535440" cy="30718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cc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r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massiv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 - 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Something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if it is extremely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n elephant ha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massive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rock blocked the entrance to the c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Verdana"/>
                <a:ea typeface="Arial"/>
              </a:rPr>
              <a:t>sprou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very young plan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When a plant begins growing from a seed it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s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The young bean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 had little green le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A seed needs warmth and moiture before it will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  <a:ea typeface="Arial"/>
              </a:rPr>
              <a:t>sprout</a:t>
            </a:r>
            <a:r>
              <a:rPr b="0" lang="en-US" sz="3200" spc="-1" strike="noStrike">
                <a:solidFill>
                  <a:srgbClr val="feec94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people do during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harv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plant crops or pick cro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oi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mething that hurts pumpkins or something that helps pumpkins gr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can you do with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frui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eat it or water crops with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vi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fall celebration or a plant with a long, slender 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Vocabulary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e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pumpkin plant do, act like a big umbrella to protect the plant from the sun or bring food and water to the pl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bump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road with many holes and lumps in it or a road that is completely fl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is </a:t>
            </a: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pond where the water is still or a pond with many waves in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  <a:ea typeface="Arial"/>
              </a:rPr>
              <a:t>Life Cycle of a Pumpk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838080" y="1523880"/>
          <a:ext cx="3048120" cy="45244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343400" y="1523880"/>
          <a:ext cx="3927600" cy="44690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4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t               pu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k            p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od           br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ll               h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od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footpr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ly   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pud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ok          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Arial"/>
                          <a:ea typeface="Arial"/>
                        </a:rPr>
                        <a:t>cush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Antonym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re words with opposite meanings.  Name the 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</a:rPr>
              <a:t>antonym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is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umpkins can be bumpy or smooth, large or small, long or r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mpy – sm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–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ng -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Student Pages"/>
          <p:cNvPicPr/>
          <p:nvPr/>
        </p:nvPicPr>
        <p:blipFill>
          <a:blip r:embed="rId1"/>
          <a:stretch/>
        </p:blipFill>
        <p:spPr>
          <a:xfrm>
            <a:off x="228600" y="546120"/>
            <a:ext cx="876312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cok made a pumpkin pi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The cook made a pumpkin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o you like pud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  <a:ea typeface="Arial"/>
              </a:rPr>
              <a:t>Do you like pudd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Verdana"/>
              </a:rPr>
              <a:t>Adjectives for Number, Size, and Shap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me people, places, animals, and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 nou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ell how nouns sound, smell, feel, look and ta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Verdana"/>
              </a:rPr>
              <a:t>Adjectiv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lso tell about the number, size, and shape of 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Wrap Up Your Day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’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orrow we will read a poem that explains how seeds know which way to g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10:03:55Z</dcterms:modified>
  <cp:revision>29</cp:revision>
  <dc:subject/>
  <dc:title>Slide 1</dc:title>
</cp:coreProperties>
</file>